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041-F3DA-4B55-80B5-A054CEEC6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979A-8C38-4C3C-8E86-5B19CFF8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5F63-4091-42B3-9E6F-A70F4DFF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9337-A75E-4C4A-9AC1-A55F0984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DB0C-5EDE-413F-96BD-1CA74272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365E-EC77-4FB9-98E4-76AE7572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7F81-F244-4DA8-9013-BC087979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7100-4DD5-40EA-A307-0AE9A5D9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2EAA-EBF9-4BCE-BB69-5DB8C3EC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6A21-F14E-48B8-8701-30C90008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8FE6-EE18-4EFF-B7A9-549E7AE3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E46E-A9FA-463F-B810-2A705A16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3584-F2AB-4B3C-903C-5D948A88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2318-FD75-46F2-A100-D3E982F7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19EA-B122-4DF5-9394-5A3F7CAB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BD90-02A4-4F13-9AF1-711B0EFD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A7F7-C187-40F1-9B87-BC34A35F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0FEC-6883-4FBB-860A-C129819F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3078-CFBA-4124-8C57-355F932C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C510-64F0-4823-BF4D-F258D7BA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602-B2C9-4BA6-9AAD-2AB6C7FC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FCBD-77BD-4737-9FAD-F5122310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73BF-3644-47CF-96A8-50D9693F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C00-FE77-4D71-BA03-B7B03EBA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32EB-07D7-4710-98D0-5847DF917EF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AF79-A700-428D-8A31-18236F38B0A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bensguide.gpo.gov/3-5/state/arkansas.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postcardsfrom.com/t1/981218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13716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he   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h9/20/20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riod #1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mputer #13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5181480" cy="28242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 flipH="1" rot="39600">
            <a:off x="3428280" y="4267080"/>
            <a:ext cx="2514600" cy="18856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267080" y="3962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0" y="23623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0" y="28195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50 States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</a:rPr>
              <a:t>Arkansas Song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, 10/7/2010, www.50states.com/arkansa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ate name: Arkansa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ate capitol: Little Rock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ate population: 2,779,154 peopl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ate nickname: The Natural Stat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ate flower: Apple Blosso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ate bird: Mocking bir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re is also a cave that you can go to and they take you on tours of the cav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 went and it was one of the coolest things I ever done but it was scar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162920" y="48769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7086600" y="4572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049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3" name="" descr="Arkansas: Map and State Flag"/>
          <p:cNvPicPr/>
          <p:nvPr/>
        </p:nvPicPr>
        <p:blipFill>
          <a:blip r:embed="rId1"/>
          <a:stretch/>
        </p:blipFill>
        <p:spPr>
          <a:xfrm>
            <a:off x="0" y="0"/>
            <a:ext cx="2529000" cy="38862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64" name=""/>
          <p:cNvSpPr/>
          <p:nvPr/>
        </p:nvSpPr>
        <p:spPr>
          <a:xfrm>
            <a:off x="228600" y="4038480"/>
            <a:ext cx="8915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Ben’s Guide to Government for kids, </a:t>
            </a:r>
            <a:r>
              <a:rPr b="0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Quick Facts Arkansas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,9/22/20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"/>
                <a:hlinkClick r:id="rId2"/>
              </a:rPr>
              <a:t>http://bensguide.gpo.gov/3-5/state/arkansas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24382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rkansa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All images Copyright © 1997 - 2000 WriteLine. All Rights Reserved. Little Rock Capitol Christmas ights "/>
          <p:cNvPicPr/>
          <p:nvPr/>
        </p:nvPicPr>
        <p:blipFill>
          <a:blip r:embed="rId1"/>
          <a:stretch/>
        </p:blipFill>
        <p:spPr>
          <a:xfrm>
            <a:off x="0" y="0"/>
            <a:ext cx="5638680" cy="37591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0" y="3886200"/>
            <a:ext cx="6781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ost Cards From America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Little Rock, Ar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,9/23/2010,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"/>
                <a:hlinkClick r:id="rId2"/>
              </a:rPr>
              <a:t>http://www.postcardsfrom.com/t1/981218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3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3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59Z</dcterms:created>
  <dc:creator>install</dc:creator>
  <dc:description/>
  <dc:language>en-US</dc:language>
  <cp:lastModifiedBy>install</cp:lastModifiedBy>
  <dcterms:modified xsi:type="dcterms:W3CDTF">2010-10-14T13:22:05Z</dcterms:modified>
  <cp:revision>15</cp:revision>
  <dc:subject/>
  <dc:title>Slide 1</dc:title>
</cp:coreProperties>
</file>